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CE2F-7A01-4E57-BD5A-05716B83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9A2A-8DB1-4EC6-829B-A0CA7A6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AB52-0B5B-4C2D-97DE-710F559D7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EAC-3721-4988-B653-4458050C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BC1C-C00D-44D4-A1D4-F6FAA889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C3A7-2802-4A38-8A01-614B7618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935C-C96E-4ECB-9B14-4DEF514D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CE6-CBE6-46EA-9E42-9EAA042D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07D8-6004-4373-841F-6594298D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092-49DE-456E-9745-7EDE63F9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FF3-5EDD-4011-90C1-8323390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AD76-17BC-4195-9E66-B503D820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4C4D-E30A-4483-B5AE-1B6938D29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93920" y="1987560"/>
            <a:ext cx="685800" cy="217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P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GOŠKE MOG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Ć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STI   I NAČINI OSTVA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VAN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U ŠKO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86280" y="2016000"/>
            <a:ext cx="241596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99"/>
                </a:solidFill>
                <a:latin typeface="Times New Roman"/>
              </a:rPr>
              <a:t>PROGRAM PROFESIONALNE ORIJENTACIJ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učenike/učenice i mlade</a:t>
            </a:r>
            <a:r>
              <a:rPr b="0" lang="sr-CS" sz="1200" spc="-1" strike="noStrike">
                <a:solidFill>
                  <a:srgbClr val="99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72080" y="1978200"/>
            <a:ext cx="720720" cy="2189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K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LARI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999999"/>
                </a:solidFill>
                <a:latin typeface="Arial"/>
              </a:rPr>
              <a:t>ML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97080" y="2982960"/>
            <a:ext cx="23497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Arial"/>
              </a:rPr>
              <a:t>PROGRAM OBU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za multiplika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3933720"/>
            <a:ext cx="1828800" cy="3812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429264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4653000"/>
            <a:ext cx="262908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56000" y="5013360"/>
            <a:ext cx="308592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100" spc="-1" strike="noStrike">
                <a:solidFill>
                  <a:srgbClr val="999999"/>
                </a:solidFill>
                <a:latin typeface="Arial"/>
              </a:rPr>
              <a:t>INFORMACIJE O ZANIMANJIMA I KARIJER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84360" y="5300640"/>
            <a:ext cx="3314880" cy="289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7362200">
            <a:off x="1351080" y="4287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3766200">
            <a:off x="5072040" y="4251240"/>
            <a:ext cx="2057400" cy="790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999999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56000" y="422100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2240" y="5194440"/>
            <a:ext cx="612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4221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300360" y="5175360"/>
            <a:ext cx="4680" cy="48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0360" y="5241960"/>
            <a:ext cx="1376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roditelj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9800" y="543096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Arial"/>
              </a:rPr>
              <a:t>Mreža škola,NSZ, privre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557360"/>
            <a:ext cx="4968720" cy="388800"/>
          </a:xfrm>
          <a:prstGeom prst="rect">
            <a:avLst/>
          </a:prstGeom>
          <a:solidFill>
            <a:srgbClr val="fa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 na prela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sku u srednju ško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1042920" y="1125000"/>
            <a:ext cx="6408720" cy="432000"/>
          </a:xfrm>
          <a:prstGeom prst="flowChartManualOperation">
            <a:avLst/>
          </a:prstGeom>
          <a:solidFill>
            <a:srgbClr val="fe18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41280" y="1052640"/>
            <a:ext cx="88027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MATERIJALI ZA IMPLEMENTACIJU </a:t>
            </a:r>
            <a:br>
              <a:rPr sz="2400"/>
            </a:b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CAOTS5M5" descr=""/>
          <p:cNvPicPr/>
          <p:nvPr/>
        </p:nvPicPr>
        <p:blipFill>
          <a:blip r:embed="rId2"/>
          <a:stretch/>
        </p:blipFill>
        <p:spPr>
          <a:xfrm>
            <a:off x="6948360" y="3860640"/>
            <a:ext cx="1570320" cy="1462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21071400">
            <a:off x="755280" y="1915920"/>
            <a:ext cx="373536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RIRUČNIK ZA RAD S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UČENICIMA/UČENICA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21071400">
            <a:off x="3347640" y="2997000"/>
            <a:ext cx="3325680" cy="15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Arial"/>
              </a:rPr>
              <a:t>ZA UČENIKE/UČEN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24360" y="1773360"/>
            <a:ext cx="905040" cy="79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OBU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3 D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20880" y="830160"/>
            <a:ext cx="696096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ILJEVI OBUKE za PO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2280" y="1501920"/>
            <a:ext cx="6130800" cy="1228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uspešnu primenu Programa PO sa učenicima/učenicama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osnovnim škol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13200" y="2205000"/>
            <a:ext cx="6130800" cy="1228680"/>
          </a:xfrm>
          <a:prstGeom prst="ellipse">
            <a:avLst/>
          </a:prstGeom>
          <a:solidFill>
            <a:srgbClr val="f8ff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za osiguranje i dostizanje principa, ciljeva i standarda postignuća učenika u oblasti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3213000"/>
            <a:ext cx="6130800" cy="1359000"/>
          </a:xfrm>
          <a:prstGeom prst="ellipse">
            <a:avLst/>
          </a:prstGeom>
          <a:solidFill>
            <a:srgbClr val="c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kompetencija roditelja učenika za pružanje podrške i pomoći učenicima u usmeravanju njihovog profesionalnog razvo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84360" y="4292640"/>
            <a:ext cx="6131160" cy="1160280"/>
          </a:xfrm>
          <a:prstGeom prst="ellipse">
            <a:avLst/>
          </a:prstGeom>
          <a:solidFill>
            <a:srgbClr val="c5ffd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postavljanje saradnje i partnerstva sa institucijama i ustanovama za uspešnu implementaciju progra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4922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6680" y="341964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443700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5360" y="135396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b8a0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084720" y="4797360"/>
            <a:ext cx="28386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posobljavanje za praćen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procesu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07920" y="865080"/>
            <a:ext cx="6961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SPECIFIČNI CILJE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39680" y="1428840"/>
            <a:ext cx="6961320" cy="47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7240" y="1498680"/>
            <a:ext cx="7778880" cy="62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evanje savremeno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ncepta P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multidimenzionaln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ne aktivn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5200" y="1068480"/>
            <a:ext cx="1057320" cy="914400"/>
          </a:xfrm>
          <a:custGeom>
            <a:avLst/>
            <a:gdLst>
              <a:gd name="textAreaLeft" fmla="*/ 241200 w 1057320"/>
              <a:gd name="textAreaRight" fmla="*/ 816120 w 10573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2781360"/>
            <a:ext cx="2838240" cy="157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azilaženje razumevan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rijere kao statič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tegori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prihvatanje da j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eloživotni pro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16360" y="3357720"/>
            <a:ext cx="2838600" cy="1125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mena metoda, oblik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ika rada 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teraktivnim radionic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2492280"/>
            <a:ext cx="820440" cy="61776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11640" y="292428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35640" y="450864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39640" y="1052640"/>
            <a:ext cx="3732480" cy="968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janje profesionalnih interes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enika u skladu sa savremeni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menama sveta r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620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2133720"/>
            <a:ext cx="3732120" cy="67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anje rodtitelja/staratelja u proces PO učeni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213372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692360" y="2852640"/>
            <a:ext cx="3732120" cy="87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radnja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 na lokalu u postizanj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iljeva 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2852640"/>
            <a:ext cx="820800" cy="61776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760"/>
              <a:gd name="textAreaBottom" fmla="*/ 477000 h 617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0000" y="3789360"/>
            <a:ext cx="3732120" cy="1217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d na umrežavanju na lokaln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 regionalnom nivou i to sa drug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školama i sa vanškolsk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stitucij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4005360"/>
            <a:ext cx="820440" cy="617400"/>
          </a:xfrm>
          <a:custGeom>
            <a:avLst/>
            <a:gdLst>
              <a:gd name="textAreaLeft" fmla="*/ 187200 w 820440"/>
              <a:gd name="textAreaRight" fmla="*/ 633240 w 82044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5084640"/>
            <a:ext cx="3732120" cy="6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šćenje i razvijanje materijala iz 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5013360"/>
            <a:ext cx="820800" cy="617400"/>
          </a:xfrm>
          <a:custGeom>
            <a:avLst/>
            <a:gdLst>
              <a:gd name="textAreaLeft" fmla="*/ 187200 w 820800"/>
              <a:gd name="textAreaRight" fmla="*/ 633600 w 820800"/>
              <a:gd name="textAreaTop" fmla="*/ 140760 h 617400"/>
              <a:gd name="textAreaBottom" fmla="*/ 476640 h 61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46960" cy="8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O IZBORA ISPRAVNOG PUTA OBRAZOVANJA I ODLUKE ZA ZANIMANJA – KROZ PET KORA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39320" y="2095200"/>
            <a:ext cx="696132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724280"/>
            <a:ext cx="3314880" cy="3812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SAMOSPOZNA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5280" y="3933720"/>
            <a:ext cx="3085920" cy="449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999999"/>
                </a:solidFill>
                <a:latin typeface="Times New Roman"/>
              </a:rPr>
              <a:t>INFORMACIJE O ZANIMANJIMA I KARIJE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43280" y="3284640"/>
            <a:ext cx="2628720" cy="380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PUTEVI OBRAZOVAN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08360" y="2708280"/>
            <a:ext cx="2286000" cy="3808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999999"/>
                </a:solidFill>
                <a:latin typeface="Arial"/>
              </a:rPr>
              <a:t>REALNI SUSRE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2133720"/>
            <a:ext cx="1828800" cy="38088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9999"/>
                </a:solidFill>
                <a:latin typeface="Arial"/>
              </a:rPr>
              <a:t>ODLU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6760" y="3219480"/>
            <a:ext cx="130500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32000" y="1125000"/>
            <a:ext cx="6960960" cy="69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SAMOSPOZNA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564000" y="3933720"/>
            <a:ext cx="1682640" cy="15066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403280" y="1989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Intereso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06864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Arial"/>
              </a:rPr>
              <a:t>Vred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2205000"/>
            <a:ext cx="151596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Kakav/va s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i kako m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999999"/>
                </a:solidFill>
                <a:latin typeface="Comic Sans MS"/>
              </a:rPr>
              <a:t>drugi vi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2060640"/>
            <a:ext cx="2084400" cy="1017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Veštine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o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43640" y="3213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Očekiv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4221000"/>
            <a:ext cx="2084400" cy="1017720"/>
          </a:xfrm>
          <a:prstGeom prst="ellipse">
            <a:avLst/>
          </a:prstGeom>
          <a:solidFill>
            <a:srgbClr val="e9f9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Timski r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35640" y="4437000"/>
            <a:ext cx="2084400" cy="1017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ad 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999999"/>
                </a:solidFill>
                <a:latin typeface="Comic Sans MS"/>
              </a:rPr>
              <a:t>roditelj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8037360" cy="600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FORMACIJE  O  ZANIMANJIMA I KARIJ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radionice info" descr=""/>
          <p:cNvPicPr/>
          <p:nvPr/>
        </p:nvPicPr>
        <p:blipFill>
          <a:blip r:embed="rId2"/>
          <a:stretch/>
        </p:blipFill>
        <p:spPr>
          <a:xfrm>
            <a:off x="1633680" y="3075120"/>
            <a:ext cx="1825560" cy="10476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14760" y="247968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vet zanima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56080" y="4297320"/>
            <a:ext cx="2451240" cy="117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Putevi karij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341360"/>
            <a:ext cx="729612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PUTEVI OBRAZOVAN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5280" y="2349360"/>
            <a:ext cx="1944720" cy="1895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796000" y="2205000"/>
            <a:ext cx="3030480" cy="1703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Mreža ško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7596360" y="1773360"/>
            <a:ext cx="685800" cy="552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2987640" y="4437000"/>
            <a:ext cx="2476440" cy="885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916360" y="2852640"/>
            <a:ext cx="273528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39680" y="1411200"/>
            <a:ext cx="6961320" cy="690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REALNI SUSRE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241800" cy="3025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43280" y="2852640"/>
            <a:ext cx="2873520" cy="1936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Raspitivanja 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9999"/>
                </a:solidFill>
                <a:latin typeface="Comic Sans MS"/>
              </a:rPr>
              <a:t>i</a:t>
            </a: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sprobavanj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999999"/>
                </a:solidFill>
                <a:latin typeface="Comic Sans MS"/>
              </a:rPr>
              <a:t>u svetu r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948360" y="2708280"/>
            <a:ext cx="7812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38160" y="1214280"/>
            <a:ext cx="6961320" cy="6908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ODLU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rofa na kompu" descr=""/>
          <p:cNvPicPr/>
          <p:nvPr/>
        </p:nvPicPr>
        <p:blipFill>
          <a:blip r:embed="rId2"/>
          <a:stretch/>
        </p:blipFill>
        <p:spPr>
          <a:xfrm>
            <a:off x="826920" y="2852640"/>
            <a:ext cx="96228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CA0DCXQ3" descr=""/>
          <p:cNvPicPr/>
          <p:nvPr/>
        </p:nvPicPr>
        <p:blipFill>
          <a:blip r:embed="rId3"/>
          <a:stretch/>
        </p:blipFill>
        <p:spPr>
          <a:xfrm>
            <a:off x="1042920" y="2276640"/>
            <a:ext cx="1050840" cy="660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727440" y="2284560"/>
            <a:ext cx="3063960" cy="2441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 ISPRAVN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PUTA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IZB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9999"/>
                </a:solidFill>
                <a:latin typeface="Comic Sans MS"/>
              </a:rPr>
              <a:t>ZANIMANJ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443640" y="4292640"/>
            <a:ext cx="1757520" cy="1671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908000" y="4149720"/>
            <a:ext cx="149544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4000" y="2106720"/>
            <a:ext cx="864072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formisanje i saglasnost: nastavničkog veća, školskog odbora, saveta roditelj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ojek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oskurikularni-integrativni pristup/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s odeljenjske zajedn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as vannastavnih aktivnos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akultativ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bornom predme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zent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javljivanje zainteresovanih uče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baveštavanje roditel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rganizacija implementacije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ealizacija radionica sa učenicima 7. i 8. razr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azvo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napredjivanje programa: specijalizacij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imeri dobre prak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aćenje, izveštavanje, evaluacija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42920" y="1268280"/>
            <a:ext cx="576900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PEDAGOŠKE MOGUĆNOSTI U OSNOVNIM ŠKOL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51640" y="1197000"/>
            <a:ext cx="1171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68360" y="1268280"/>
            <a:ext cx="78166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PODRŠKA, SARADNICI, OSLONCI</a:t>
            </a:r>
            <a:r>
              <a:rPr b="1" lang="sr-Latn-CS" sz="3600" spc="-1" strike="noStrike">
                <a:solidFill>
                  <a:srgbClr val="99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39680" y="21067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prosvete i nauke MP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inistarstvo omladine i sporta 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oditel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reža 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a služba za zapošlja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ivr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ntervju par" descr=""/>
          <p:cNvPicPr/>
          <p:nvPr/>
        </p:nvPicPr>
        <p:blipFill>
          <a:blip r:embed="rId2"/>
          <a:stretch/>
        </p:blipFill>
        <p:spPr>
          <a:xfrm>
            <a:off x="6227640" y="4365720"/>
            <a:ext cx="23241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3T20:53:43Z</dcterms:created>
  <dc:creator>marina</dc:creator>
  <dc:description/>
  <dc:language>en-US</dc:language>
  <cp:lastModifiedBy>WINDOWS XP</cp:lastModifiedBy>
  <dcterms:modified xsi:type="dcterms:W3CDTF">2012-02-07T11:58:21Z</dcterms:modified>
  <cp:revision>26</cp:revision>
  <dc:subject/>
  <dc:title>Slide 1</dc:title>
</cp:coreProperties>
</file>